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E807-EF96-412B-BD1E-31C32ED64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906C-8D7F-4D1C-BF19-249B0025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56D3-5888-4921-8E99-595252CAF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B21D-5091-433F-8904-D6F643D4C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97B5-3B40-4370-BC4E-96629618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BE99-406D-4368-A7F3-1C9B838C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0355-E549-450E-9999-4DF38F06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7DD4-4FB2-4D1C-A497-2666C7D0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1D14-41DA-4B25-A4B1-E066B38F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E029-4AE9-4CE3-8DCE-F4D793D2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4ACA-2C4D-40B4-9EC9-5B433455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F063-37B3-4258-A25A-291A9DC0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93A7-B924-42F5-AA52-49F29685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371F-2F32-4978-8CA9-B9DB6572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B5A3-93D4-4958-84CD-41B56FDA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CC00-09E7-4388-8F4D-93CDA78D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6558-3129-4D53-BFFB-8123F84FC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EFBE-06BA-454E-9F13-53ACE589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5810-3072-4749-8206-0BDDA706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0466-77C0-4EDC-A37D-01535B62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92A3-5A30-4381-87AC-C6217D6C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3430-D8B2-44D2-8313-B873A8DC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F899-D9E7-4922-BCD9-4F6385EF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207B-8F6A-45B2-A450-11448030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A466-02C9-467C-ABE8-CD4E062BBF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227A-1045-4FC7-92AB-2B2C748BA4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Arial"/>
              </a:rPr>
              <a:t>КРУПЯНЫЕ БЛЮД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564000" y="1628640"/>
            <a:ext cx="2666880" cy="2845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55640" y="2133720"/>
            <a:ext cx="2633760" cy="3456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435640" y="4221000"/>
            <a:ext cx="3384360" cy="22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Arial"/>
              </a:rPr>
              <a:t>ИЗ ЧЕГО ВАРИЛИ КАШУ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оначально кашу варили из </a:t>
            </a:r>
            <a:r>
              <a:rPr b="0" lang="ru-RU" sz="28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полб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ли из </a:t>
            </a:r>
            <a:r>
              <a:rPr b="0" lang="ru-RU" sz="2800" spc="-1" strike="noStrike" u="sng">
                <a:solidFill>
                  <a:srgbClr val="990033"/>
                </a:solidFill>
                <a:uFillTx/>
                <a:latin typeface="Arial"/>
                <a:hlinkClick r:id="rId2" action="ppaction://hlinksldjump"/>
              </a:rPr>
              <a:t>толок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о временем стали готовить гречневую и пшенную каши. Варили также каши из бобов и гороха, сухарей и остатков хлеба.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V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ке существовало более двадцати разновидностей каш. «Княгиней кухни» считалась гречневая каш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Arial"/>
              </a:rPr>
              <a:t>КРУПЫ ИЗ ПШЕНИЦ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 пшеницы вырабатываю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упу пшеничн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ч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нную круп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356000" y="1599840"/>
            <a:ext cx="4330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Полба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овидность пшеницы с ломким колосом (при созревании распадается на колоски с члениками стержня) и не вымолачиваемым из пленок зерно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Arial"/>
              </a:rPr>
              <a:t>КРУПЫ ИЗ ОВС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84360" y="1628640"/>
            <a:ext cx="3814560" cy="4530960"/>
            <a:chOff x="684360" y="1628640"/>
            <a:chExt cx="3814560" cy="453096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684360" y="1628640"/>
              <a:ext cx="3814560" cy="453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 txBox="1"/>
            <p:nvPr/>
          </p:nvSpPr>
          <p:spPr>
            <a:xfrm>
              <a:off x="684360" y="1628640"/>
              <a:ext cx="3814560" cy="453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99"/>
                </a:spcBef>
                <a:buClr>
                  <a:srgbClr val="b2b2b2"/>
                </a:buClr>
                <a:buSzPct val="9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всяная недробле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всяная плюще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всяные хлопья «Геркуле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2" action="ppaction://hlinksldjump"/>
              </a:rPr>
              <a:t>Толокно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(овес промывали, варили, высушивали и толкли в ступе в мелкую крупу, отсюда и названи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Arial"/>
              </a:rPr>
              <a:t>ГРЕЧИХ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914400" y="1600200"/>
            <a:ext cx="3814920" cy="4530600"/>
            <a:chOff x="914400" y="1600200"/>
            <a:chExt cx="3814920" cy="453060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914400" y="1600200"/>
              <a:ext cx="3814920" cy="45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 txBox="1"/>
            <p:nvPr/>
          </p:nvSpPr>
          <p:spPr>
            <a:xfrm>
              <a:off x="914400" y="1600200"/>
              <a:ext cx="3814920" cy="453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99"/>
                </a:spcBef>
                <a:buClr>
                  <a:srgbClr val="b2b2b2"/>
                </a:buClr>
                <a:buSzPct val="9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упа-ядр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ечневый прод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Arial"/>
              </a:rPr>
              <a:t>КРУПЫ ИЗ ПРОС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914400" y="1600200"/>
            <a:ext cx="3814920" cy="4530600"/>
            <a:chOff x="914400" y="1600200"/>
            <a:chExt cx="3814920" cy="453060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914400" y="1600200"/>
              <a:ext cx="3814920" cy="45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 txBox="1"/>
            <p:nvPr/>
          </p:nvSpPr>
          <p:spPr>
            <a:xfrm>
              <a:off x="914400" y="1600200"/>
              <a:ext cx="3814920" cy="453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00"/>
                </a:spcBef>
                <a:buClr>
                  <a:srgbClr val="b2b2b2"/>
                </a:buClr>
                <a:buSzPct val="9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шено шлифова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Arial"/>
              </a:rPr>
              <a:t>КРУПЫ ИЗ ЯЧМЕНЯ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914400" y="1600200"/>
            <a:ext cx="3814920" cy="4530600"/>
            <a:chOff x="914400" y="1600200"/>
            <a:chExt cx="3814920" cy="453060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914400" y="1600200"/>
              <a:ext cx="3814920" cy="45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 txBox="1"/>
            <p:nvPr/>
          </p:nvSpPr>
          <p:spPr>
            <a:xfrm>
              <a:off x="914400" y="1600200"/>
              <a:ext cx="3814920" cy="453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b2b2b2"/>
                </a:buClr>
                <a:buSzPct val="9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упа перло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упа ячне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Arial"/>
              </a:rPr>
              <a:t>КРУПЫ ИЗ РИС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14400" y="1600200"/>
            <a:ext cx="3814920" cy="4530600"/>
            <a:chOff x="914400" y="1600200"/>
            <a:chExt cx="3814920" cy="453060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914400" y="1600200"/>
              <a:ext cx="3814920" cy="45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 txBox="1"/>
            <p:nvPr/>
          </p:nvSpPr>
          <p:spPr>
            <a:xfrm>
              <a:off x="914400" y="1600200"/>
              <a:ext cx="3814920" cy="453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300"/>
                </a:spcBef>
                <a:buClr>
                  <a:srgbClr val="b2b2b2"/>
                </a:buClr>
                <a:buSzPct val="9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с шлифова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с полирова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с дробле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33"/>
                </a:solidFill>
                <a:latin typeface="Arial"/>
              </a:rPr>
              <a:t>КРУПЫ ИЗ КУКУРУЗЫ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914400" y="1600200"/>
            <a:ext cx="3814920" cy="4530600"/>
            <a:chOff x="914400" y="1600200"/>
            <a:chExt cx="3814920" cy="453060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914400" y="1600200"/>
              <a:ext cx="3814920" cy="45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 txBox="1"/>
            <p:nvPr/>
          </p:nvSpPr>
          <p:spPr>
            <a:xfrm>
              <a:off x="914400" y="1600200"/>
              <a:ext cx="3814920" cy="453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300"/>
                </a:spcBef>
                <a:buClr>
                  <a:srgbClr val="b2b2b2"/>
                </a:buClr>
                <a:buSzPct val="9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упа кукуруз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Arial"/>
              </a:rPr>
              <a:t>ЗАБЫТЫЕ СЛОВ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1895400"/>
            <a:ext cx="777240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Arial"/>
              </a:rPr>
              <a:t>ЗАБЫТЫЕ СЛОВ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арген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наскоро сваренная каша из более мелкого и  некачественного зерна (отсюда произошло слово «сварганить», то есть наскоро что-то приготовить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сп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каша (от слова засыпать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спица – глазунь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жидкая каша из смеси крупы и гороха (горох в сваренной каше выделялся желтыми крапинками, говорили: «глядит, как глазами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Arial"/>
              </a:rPr>
              <a:t>СОДЕРЖАНИЕ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Щи да каш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2" action="ppaction://hlinksldjump"/>
              </a:rPr>
              <a:t>Однокаш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 чего варили каш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3" action="ppaction://hlinksldjump"/>
              </a:rPr>
              <a:t>Забытые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юда из кру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терату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Arial"/>
              </a:rPr>
              <a:t>ЗАБЫТЫЕ СЛОВ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варих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для ее приготовления в накаленный докрасна глиняный горшок наливали кипяток, а затем подсыпали муку, постоянно помешивая. Сдабривали постным маслом, салом и смета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Arial"/>
              </a:rPr>
              <a:t>ЗАБЫТЫЕ СЛОВ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ян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сильно упретая в русской печи гречневая каша с мозгами, бараньим мясом, луком и яйцом (обычно ее подавали со щами из кислой капуст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улаг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хорошо пропаренная в печи смесь из ржаной муки и ягод кал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Arial"/>
              </a:rPr>
              <a:t>ЗАБЫТЫЕ СЛОВ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альн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гречневая каша с мелко нарубленными печенкой, репчатым луком и яй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уть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ритуальная сладкая каша (сначала готовилась из пшена и меда, а затем стали добавлять мак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33"/>
                </a:solidFill>
                <a:latin typeface="Arial"/>
              </a:rPr>
              <a:t>БЛЮДА ИЗ КРУП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612144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Arial"/>
              </a:rPr>
              <a:t>ПРИМЕРНОЕ КОЛИЧЕСТВО ЖИДКОСТ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914400" y="1600200"/>
          <a:ext cx="7772400" cy="4745160"/>
        </p:xfrm>
        <a:graphic>
          <a:graphicData uri="http://schemas.openxmlformats.org/drawingml/2006/table">
            <a:tbl>
              <a:tblPr/>
              <a:tblGrid>
                <a:gridCol w="2289240"/>
                <a:gridCol w="2305080"/>
                <a:gridCol w="1655640"/>
                <a:gridCol w="152244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п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 воды (в стаканах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ыпчат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язк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дк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ечнев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ше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ов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Геркулес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Arial"/>
              </a:rPr>
              <a:t>КАША МАННАЯ НА КЛЮКВЕННОМ СОК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4 пор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5 стакана  манной кру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стакан клю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,5 стакана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ст. л. сахарного пе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5 стакана сли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ль по вку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932360" y="1628640"/>
            <a:ext cx="3816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Arial"/>
              </a:rPr>
              <a:t>КАША ГЕРКУЛЕСОВАЯ С ИЗЮМОМ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4 пор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3 стакана «геркуле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стакана мол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3 стакана изю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ст. л. м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апельс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876920" y="2251080"/>
            <a:ext cx="38098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Arial"/>
              </a:rPr>
              <a:t>КАША ПШЕННАЯ С ОВОЩАМ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4- 6 пор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0 г пш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,5 стакана овощного буль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луков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морк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стебля сельдер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0 г цветной капу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25 стакана изю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тительное масло, соль, пер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751280" y="1557360"/>
            <a:ext cx="3853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Arial"/>
              </a:rPr>
              <a:t>ПРОВЕРЬ СЕБЯ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бери правильный от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Однокашники» - э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итель и родит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еники, вместе едавшие каш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фициан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Arial"/>
              </a:rPr>
              <a:t>Выбери правильный ответ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ба – э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овидность ов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овидность пше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овидность 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990033"/>
                </a:solidFill>
                <a:uFillTx/>
                <a:latin typeface="Times New Roman"/>
                <a:hlinkClick r:id="rId1" action="ppaction://hlinksldjump"/>
              </a:rPr>
              <a:t>«</a:t>
            </a:r>
            <a:r>
              <a:rPr b="0" lang="en-US" sz="3600" spc="-1" strike="noStrike" u="sng">
                <a:solidFill>
                  <a:srgbClr val="990033"/>
                </a:solidFill>
                <a:uFillTx/>
                <a:latin typeface="Arial"/>
                <a:hlinkClick r:id="rId2" action="ppaction://hlinksldjump"/>
              </a:rPr>
              <a:t>ЩИ ДА КАША – ПИЩА НАША</a:t>
            </a:r>
            <a:r>
              <a:rPr b="0" lang="en-US" sz="3600" spc="-1" strike="noStrike" u="sng">
                <a:solidFill>
                  <a:srgbClr val="990033"/>
                </a:solidFill>
                <a:uFillTx/>
                <a:latin typeface="Arial"/>
                <a:hlinkClick r:id="rId3" action="ppaction://hlinksldjump"/>
              </a:rPr>
              <a:t>».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то из нас не слышал эту пословицу? А еще говаривали: «Каша – мать наша». Часто на Руси кашу называли праматерью хлеба. Ни одного важного дела или события не проходило в старину без каши. Каша считалась символом богатства и благополучия в семье. Ее готовили на свадьбу, поминки, пиры и … носили в школу учите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Arial"/>
              </a:rPr>
              <a:t>Выбери правильный ответ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локно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аз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всяная му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всяное печен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всяные хлоп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Arial"/>
              </a:rPr>
              <a:t>ЧТО ЗДЕСЬ ИЗОБРАЖЕНО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с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ве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939960" y="1773360"/>
            <a:ext cx="3881160" cy="4319640"/>
            <a:chOff x="939960" y="1773360"/>
            <a:chExt cx="3881160" cy="431964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939960" y="1773360"/>
              <a:ext cx="388116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 txBox="1"/>
            <p:nvPr/>
          </p:nvSpPr>
          <p:spPr>
            <a:xfrm>
              <a:off x="939960" y="1773360"/>
              <a:ext cx="3881160" cy="431964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300"/>
                </a:spcBef>
                <a:buClr>
                  <a:srgbClr val="b2b2b2"/>
                </a:buClr>
                <a:buSzPct val="9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33"/>
                </a:solidFill>
                <a:latin typeface="Arial"/>
              </a:rPr>
              <a:t>ПРОВЕРЬ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чему это блюдо такого цве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859280" y="1557360"/>
            <a:ext cx="3889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Arial"/>
              </a:rPr>
              <a:t>ОТВЕТ: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акую кашу добавляли ма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«ОДНОКАШНИКИ»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763640" y="1628640"/>
            <a:ext cx="58024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Arial"/>
              </a:rPr>
              <a:t>«ОДНОКАШНИКИ»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бы учеба шла успешно, родители ребенка в старину всегда носили в школу угощенье. Приводя первый раз ученика в школу, родители подносили учителю «хлеб-соль». Как правило, это были калачи, водка, и какая-либо живн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Arial"/>
              </a:rPr>
              <a:t>«ОДНОКАШНИКИ»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ждый четверг ученик нес в дом учителя «четверговое», а в праздники – «праздниковое»: сыр, масло постное или сливочное, куличи и калачи, яйца и даже бублики. Однако самым популярным подношением считалась КА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Arial"/>
              </a:rPr>
              <a:t>«</a:t>
            </a:r>
            <a:r>
              <a:rPr b="1" lang="en-US" sz="4800" spc="-1" strike="noStrike">
                <a:solidFill>
                  <a:srgbClr val="330033"/>
                </a:solidFill>
                <a:latin typeface="Arial"/>
              </a:rPr>
              <a:t>ОДНОКАШНИКИ»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окончании изучения каждой книги ученик приходил в школу с родителями и приносил горшочек пшенной каши. Поверх горшка с кашей клали условленную сумму денег, о которой договаривались заранее, и платок. В особый узелок заворачивали угощение – калач и жаркое. Это угощение съедали родители вместе с учителем, а ученикам отдавали каш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Arial"/>
              </a:rPr>
              <a:t>«ОДНОКАШНИКИ»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устой горшок разбивали во дворе и в этот день уже не учились. Таких дней в году случалось не мало, так как дети поступали в школу в разное время и книги осваивали не одновременно. Так и стали называть тех, кто вместе ел кашу, «ОДНОКАШНИКАМ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Arial"/>
              </a:rPr>
              <a:t>ИЗ ЧЕГО ВАРИЛИ КАШУ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492360" y="3573360"/>
            <a:ext cx="2457720" cy="2735280"/>
            <a:chOff x="3492360" y="3573360"/>
            <a:chExt cx="2457720" cy="273528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3492360" y="3573360"/>
              <a:ext cx="2457720" cy="27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 txBox="1"/>
            <p:nvPr/>
          </p:nvSpPr>
          <p:spPr>
            <a:xfrm>
              <a:off x="3492360" y="3573360"/>
              <a:ext cx="2457720" cy="273528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b2b2b2"/>
                </a:buClr>
                <a:buSzPct val="9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2808000" cy="25923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6012000" y="1628640"/>
            <a:ext cx="2232000" cy="2232000"/>
            <a:chOff x="6012000" y="1628640"/>
            <a:chExt cx="2232000" cy="2232000"/>
          </a:xfrm>
        </p:grpSpPr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6012000" y="1628640"/>
              <a:ext cx="223200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 txBox="1"/>
            <p:nvPr/>
          </p:nvSpPr>
          <p:spPr>
            <a:xfrm>
              <a:off x="6012000" y="1628640"/>
              <a:ext cx="2232000" cy="22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99"/>
                </a:spcBef>
                <a:buClr>
                  <a:srgbClr val="b2b2b2"/>
                </a:buClr>
                <a:buSzPct val="9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21:47:35Z</dcterms:created>
  <dc:creator>Коломиец Н.А.</dc:creator>
  <dc:description/>
  <dc:language>en-US</dc:language>
  <cp:lastModifiedBy>Малышева</cp:lastModifiedBy>
  <dcterms:modified xsi:type="dcterms:W3CDTF">2011-01-24T18:46:43Z</dcterms:modified>
  <cp:revision>7</cp:revision>
  <dc:subject/>
  <dc:title>ГРЕЧИХА</dc:title>
</cp:coreProperties>
</file>